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7C80A7-12A0-4AAF-8F1F-5CC6CD6318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5D12C-F84A-48F9-8091-77231852E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Governors Association Center for Best Practices (NGA Center) and the Council of Chief State School Officers (CCSS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A9B81-D291-424F-B02F-A905C4423B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EE6-D3E0-472A-B4B3-32F0F81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814-7904-4EE6-8A63-9F90B73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6304-77DA-4BB2-A6DB-B02B5F0B5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1146-4CA0-4C07-82ED-8BD125B5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572D1-7873-4569-8EEF-81D16F99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1E536-E5AA-48D4-9141-51EFDA8D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DAA8-9F2E-41B6-888E-F6DB719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F700C-F341-425E-AAC7-030C589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4438E-3FBE-4740-A2A7-2763CE5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A324-AF21-4911-A026-87C5CF87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6648B-E1FD-4CFE-AA33-AB64A3AD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7B8-F219-4E4A-8F2B-8C558F4D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389FA-5038-460E-A056-7ECD5952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0973E-024C-4189-9F8A-7E52181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DCD5C-EF60-42AE-BA52-3D47DBB3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B490C-E5AA-4E2F-A841-49580B64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20281-B257-4612-8339-9D128998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98C14-D1A1-44DC-AAF9-E6AEBED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B7925-1CA6-497D-A4F7-3BFB789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E37CC-8AFE-402A-AC9B-C27FD45C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0A96D-6B8F-4033-AD88-92E8C40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0C827-C892-41A3-B752-D86B0D70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ADB3-CDAD-4971-BA2E-A573CEA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A9178-7DF9-4907-BE00-78122778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5FC38-F4F2-4E84-97F6-BCE048B4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9A7C1-A2C6-44A4-A4BD-42BB7D65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A0C8C-E606-4BA8-BD7B-71CC8B27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9636F-95D5-45AD-8D80-2ADFE6A8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1BE649-5622-45E9-A6AF-8FCCEB23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00265-91D1-4AA7-8DB8-E5008AC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ACCCD-D953-437F-8727-B2F7B418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9F748C-965D-4BBF-A837-E96C6E0E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9F826B-EF45-4DEE-AF56-706B4FC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D783-C40C-45EE-B876-385DBB5B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93781-1D0E-4620-9768-8E2FCF5D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DAAC82-90D1-442D-A0D4-CC2D711B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F26FE3-7F42-4DD4-AE98-F317B1B6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08F91-1D4C-47A5-9D32-BE865D3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05142-34C3-4D8F-86BC-D82AB3F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9AC14-9EC4-4D6A-8480-1822E102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99DEE-30F7-4976-8E72-262F39EA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AFEB4-3A80-4835-9FE3-A1581012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BA166-1EA4-457F-BD74-96D565570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781-F0E6-4D42-946B-C9EF859C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17D-F15D-4921-96B6-9E9C57C4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4A2-A6AB-42E7-B933-5970AF82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004-0D8A-4BAF-A397-1E9FB245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F02A-38ED-42DD-AA9B-BAAAB3F3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AA349-0779-476F-B163-43266F2B3B1D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7B423-F44D-43B1-B256-CDE50354D2E9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8F762-2CDD-459C-8A6C-CCB552EA99EC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5273F-A4DE-48E6-B30B-C8C6A01D0CCE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6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10003-1C8C-4CFA-8408-7ACFBBE08C2D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82A0E-253F-4A6D-89CC-68C64E7EF1AC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4A69B-857B-4BE4-B699-9FF5CC48FE3B}" type="datetime"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845DC-3523-4ED4-A6C3-1C7BA012E9F8}" type="slidenum"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restandards.org/" TargetMode="External"/><Relationship Id="rId2" Type="http://schemas.openxmlformats.org/officeDocument/2006/relationships/hyperlink" Target="http://www.corestandards.org/" TargetMode="External"/><Relationship Id="rId3" Type="http://schemas.openxmlformats.org/officeDocument/2006/relationships/hyperlink" Target="http://www.corestandards.org/the-standards/english-language-arts-standards/reading-informational-text-6-12/grade-11-12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desas.org/Standard/CommonCore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149400"/>
            <a:ext cx="8689680" cy="61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ransition to Common Core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 Literacy Standards in the Content Areas</a:t>
            </a:r>
            <a:br>
              <a:rPr sz="3600"/>
            </a:br>
            <a:br>
              <a:rPr sz="3600"/>
            </a:br>
            <a:r>
              <a:rPr b="1" i="1" lang="en-US" sz="3100" spc="-1" strike="noStrike">
                <a:solidFill>
                  <a:srgbClr val="ffffff"/>
                </a:solidFill>
                <a:latin typeface="Palatino Linotype"/>
              </a:rPr>
              <a:t>FCASD Secondary Program Overview</a:t>
            </a:r>
            <a:br>
              <a:rPr sz="31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prepared with support from the AIU - Christopher Caton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 June 2012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96760" y="3902040"/>
            <a:ext cx="771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Literacy Standards in: 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Science and 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Writing Standards in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History/Social Studies, Science and Technical Subjec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Palatino Linotype"/>
              </a:rPr>
              <a:t>FCASD is addressing this as  “literacy in all content areas”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381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1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Rectangle 2"/>
          <p:cNvGrpSpPr/>
          <p:nvPr/>
        </p:nvGrpSpPr>
        <p:grpSpPr>
          <a:xfrm>
            <a:off x="1712880" y="3986280"/>
            <a:ext cx="3645000" cy="1079280"/>
            <a:chOff x="1712880" y="3986280"/>
            <a:chExt cx="3645000" cy="1079280"/>
          </a:xfrm>
        </p:grpSpPr>
        <p:pic>
          <p:nvPicPr>
            <p:cNvPr id="198" name="Rectangle 2" descr=""/>
            <p:cNvPicPr/>
            <p:nvPr/>
          </p:nvPicPr>
          <p:blipFill>
            <a:blip r:embed="rId3"/>
            <a:stretch/>
          </p:blipFill>
          <p:spPr>
            <a:xfrm>
              <a:off x="1712880" y="3986280"/>
              <a:ext cx="3645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811160" y="4052880"/>
              <a:ext cx="345456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0" y="819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Non-English/Math Cours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468360" y="2355840"/>
            <a:ext cx="825336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te Standards Art &amp; Literature in History/Social Studies, Science, &amp; Technical Subjects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www.corestandards.org</a:t>
            </a: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2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 -- Select the Standards Tab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And/Or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Navigate Website:</a:t>
            </a:r>
            <a:r>
              <a:rPr b="1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3"/>
              </a:rPr>
              <a:t>http://www.corestandards.org/the-standards/english-language-arts-standards/reading-informational-text-6-12/grade-11-12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5760" y="1708200"/>
            <a:ext cx="8232480" cy="34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Adjusted to meet State expectations/needs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Informational Text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Reading Literature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600" y="241200"/>
            <a:ext cx="863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Standards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rc 1"/>
          <p:cNvSpPr/>
          <p:nvPr/>
        </p:nvSpPr>
        <p:spPr>
          <a:xfrm>
            <a:off x="344520" y="716040"/>
            <a:ext cx="8400960" cy="25146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Arc 2"/>
          <p:cNvSpPr/>
          <p:nvPr/>
        </p:nvSpPr>
        <p:spPr>
          <a:xfrm>
            <a:off x="363600" y="1579680"/>
            <a:ext cx="8400960" cy="761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44520" y="2658960"/>
            <a:ext cx="15620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039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792600" y="2658960"/>
            <a:ext cx="154296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5468760" y="2658960"/>
            <a:ext cx="161928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78840" y="2658960"/>
            <a:ext cx="146664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1" name="Straight Connector 8"/>
          <p:cNvSpPr/>
          <p:nvPr/>
        </p:nvSpPr>
        <p:spPr>
          <a:xfrm flipH="1">
            <a:off x="1125360" y="1668600"/>
            <a:ext cx="1447920" cy="990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2" name="Straight Connector 9"/>
          <p:cNvSpPr/>
          <p:nvPr/>
        </p:nvSpPr>
        <p:spPr>
          <a:xfrm flipH="1">
            <a:off x="2849040" y="1619280"/>
            <a:ext cx="6382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3" name="Straight Connector 10"/>
          <p:cNvSpPr/>
          <p:nvPr/>
        </p:nvSpPr>
        <p:spPr>
          <a:xfrm flipH="1">
            <a:off x="4564080" y="1619280"/>
            <a:ext cx="3816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4" name="Straight Connector 11"/>
          <p:cNvSpPr/>
          <p:nvPr/>
        </p:nvSpPr>
        <p:spPr>
          <a:xfrm>
            <a:off x="5850000" y="1592280"/>
            <a:ext cx="428400" cy="1066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5" name="Straight Connector 12"/>
          <p:cNvSpPr/>
          <p:nvPr/>
        </p:nvSpPr>
        <p:spPr>
          <a:xfrm>
            <a:off x="6688080" y="1619280"/>
            <a:ext cx="1324080" cy="1039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361800" y="4390920"/>
            <a:ext cx="8307360" cy="1621080"/>
          </a:xfrm>
          <a:prstGeom prst="rect">
            <a:avLst/>
          </a:prstGeom>
          <a:noFill/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1211400" y="134460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llege and Career Readiness Anchor Standard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Right Arrow 15"/>
          <p:cNvSpPr/>
          <p:nvPr/>
        </p:nvSpPr>
        <p:spPr>
          <a:xfrm>
            <a:off x="487440" y="44686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Right Arrow 16"/>
          <p:cNvSpPr/>
          <p:nvPr/>
        </p:nvSpPr>
        <p:spPr>
          <a:xfrm>
            <a:off x="487440" y="479412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Right Arrow 17"/>
          <p:cNvSpPr/>
          <p:nvPr/>
        </p:nvSpPr>
        <p:spPr>
          <a:xfrm>
            <a:off x="517680" y="5419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Right Arrow 18"/>
          <p:cNvSpPr/>
          <p:nvPr/>
        </p:nvSpPr>
        <p:spPr>
          <a:xfrm>
            <a:off x="506520" y="509256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TextBox 44"/>
          <p:cNvSpPr/>
          <p:nvPr/>
        </p:nvSpPr>
        <p:spPr>
          <a:xfrm>
            <a:off x="792000" y="4390920"/>
            <a:ext cx="78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A:  Research behind the standards and a glossary of term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820800" y="4603680"/>
            <a:ext cx="78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B: Text exemplars illustrating complexity, quality, and range of reading appropriateness 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811080" y="5014800"/>
            <a:ext cx="785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alatino Linotype"/>
              </a:rPr>
              <a:t>Appendix C: Annotated samples of student writing at various grade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822240" y="5270400"/>
            <a:ext cx="78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Palatino Linotype"/>
              </a:rPr>
              <a:t>Appendix D: Literacy standards for History and Social Studies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6" name="TextBox 49"/>
          <p:cNvSpPr/>
          <p:nvPr/>
        </p:nvSpPr>
        <p:spPr>
          <a:xfrm>
            <a:off x="2046240" y="2665440"/>
            <a:ext cx="156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ading Informational Text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Rectangle 50"/>
          <p:cNvSpPr/>
          <p:nvPr/>
        </p:nvSpPr>
        <p:spPr>
          <a:xfrm>
            <a:off x="3962520" y="275112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Literature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8" name="Rectangle 51"/>
          <p:cNvSpPr/>
          <p:nvPr/>
        </p:nvSpPr>
        <p:spPr>
          <a:xfrm>
            <a:off x="315720" y="2662200"/>
            <a:ext cx="168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Foundational Skills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Rectangle 52"/>
          <p:cNvSpPr/>
          <p:nvPr/>
        </p:nvSpPr>
        <p:spPr>
          <a:xfrm>
            <a:off x="5838480" y="265752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Rectangle 53"/>
          <p:cNvSpPr/>
          <p:nvPr/>
        </p:nvSpPr>
        <p:spPr>
          <a:xfrm>
            <a:off x="7321680" y="2620800"/>
            <a:ext cx="14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1" name="TextBox 55"/>
          <p:cNvSpPr/>
          <p:nvPr/>
        </p:nvSpPr>
        <p:spPr>
          <a:xfrm>
            <a:off x="343080" y="2828880"/>
            <a:ext cx="15634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necessary  component of an effective,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rehensive reading program designed to develop proficient reader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2" name="TextBox 56"/>
          <p:cNvSpPr/>
          <p:nvPr/>
        </p:nvSpPr>
        <p:spPr>
          <a:xfrm>
            <a:off x="2068560" y="3352680"/>
            <a:ext cx="1563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informational text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3" name="TextBox 57"/>
          <p:cNvSpPr/>
          <p:nvPr/>
        </p:nvSpPr>
        <p:spPr>
          <a:xfrm>
            <a:off x="3792600" y="3282840"/>
            <a:ext cx="1542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ables students to read, understand, and respond to literatur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TextBox 58"/>
          <p:cNvSpPr/>
          <p:nvPr/>
        </p:nvSpPr>
        <p:spPr>
          <a:xfrm>
            <a:off x="5468760" y="2844720"/>
            <a:ext cx="1619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s the skills of informational, argumentative, and narrative writing as well as the ability to engage in evidence based analysis of text and research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TextBox 63"/>
          <p:cNvSpPr/>
          <p:nvPr/>
        </p:nvSpPr>
        <p:spPr>
          <a:xfrm>
            <a:off x="7321680" y="3006720"/>
            <a:ext cx="14238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cuses students on communication skills that enable critical listening and effective presentation of ideas.</a:t>
            </a: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Right Arrow 33"/>
          <p:cNvSpPr/>
          <p:nvPr/>
        </p:nvSpPr>
        <p:spPr>
          <a:xfrm>
            <a:off x="515880" y="5724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7" name="TextBox 65"/>
          <p:cNvSpPr/>
          <p:nvPr/>
        </p:nvSpPr>
        <p:spPr>
          <a:xfrm>
            <a:off x="865080" y="5568840"/>
            <a:ext cx="78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 E: Literacy standards for Science and Technical Subjects</a:t>
            </a:r>
            <a:endParaRPr b="0" lang="en-US" sz="1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Rectangle 1"/>
          <p:cNvSpPr/>
          <p:nvPr/>
        </p:nvSpPr>
        <p:spPr>
          <a:xfrm>
            <a:off x="2268360" y="73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PA Common Core Standard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English Language Arts &amp; Literac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1062000" y="584280"/>
            <a:ext cx="710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Navigation to PA Common Co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(English &amp; Math Courses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450720" y="2690640"/>
            <a:ext cx="827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Download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9454c3"/>
                </a:solidFill>
                <a:uFillTx/>
                <a:latin typeface="Palatino Linotype"/>
                <a:hlinkClick r:id="rId1"/>
              </a:rPr>
              <a:t>http://pdesas.org/Standard/CommonCor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Similar to existing standard coding syste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Language collaboration between existing standard and Common Core languag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Standard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6"/>
          <p:cNvGrpSpPr/>
          <p:nvPr/>
        </p:nvGrpSpPr>
        <p:grpSpPr>
          <a:xfrm>
            <a:off x="204840" y="1554120"/>
            <a:ext cx="6653160" cy="4097160"/>
            <a:chOff x="204840" y="1554120"/>
            <a:chExt cx="6653160" cy="4097160"/>
          </a:xfrm>
        </p:grpSpPr>
        <p:sp>
          <p:nvSpPr>
            <p:cNvPr id="244" name="Text Box 7"/>
            <p:cNvSpPr/>
            <p:nvPr/>
          </p:nvSpPr>
          <p:spPr>
            <a:xfrm>
              <a:off x="2017080" y="1554120"/>
              <a:ext cx="475020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Arial"/>
                </a:rPr>
                <a:t>CC.  1.   5.   6.   B</a:t>
              </a:r>
              <a:endParaRPr b="0" lang="en-US" sz="40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5" name="Line 8"/>
            <p:cNvSpPr/>
            <p:nvPr/>
          </p:nvSpPr>
          <p:spPr>
            <a:xfrm flipH="1">
              <a:off x="2864520" y="2290680"/>
              <a:ext cx="763560" cy="1487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484880" y="2290680"/>
              <a:ext cx="0" cy="272916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5388120" y="2290680"/>
              <a:ext cx="709920" cy="18054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 flipH="1">
              <a:off x="1445760" y="2290680"/>
              <a:ext cx="1117440" cy="1078200"/>
            </a:xfrm>
            <a:prstGeom prst="line">
              <a:avLst/>
            </a:prstGeom>
            <a:ln w="4428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49" name="Text Box 12"/>
            <p:cNvSpPr/>
            <p:nvPr/>
          </p:nvSpPr>
          <p:spPr>
            <a:xfrm>
              <a:off x="204840" y="3372480"/>
              <a:ext cx="195984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 Common Core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0" name="Text Box 13"/>
            <p:cNvSpPr/>
            <p:nvPr/>
          </p:nvSpPr>
          <p:spPr>
            <a:xfrm>
              <a:off x="5702760" y="4096080"/>
              <a:ext cx="1155240" cy="68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rade Level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1" name="Text Box 14"/>
            <p:cNvSpPr/>
            <p:nvPr/>
          </p:nvSpPr>
          <p:spPr>
            <a:xfrm>
              <a:off x="2017080" y="3778920"/>
              <a:ext cx="14072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nglish Language Arts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52" name="Text Box 15"/>
            <p:cNvSpPr/>
            <p:nvPr/>
          </p:nvSpPr>
          <p:spPr>
            <a:xfrm>
              <a:off x="3749760" y="4783320"/>
              <a:ext cx="1372680" cy="8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peaking &amp; Listening</a:t>
              </a:r>
              <a:endParaRPr b="0" lang="en-US" sz="24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53" name="Line 10"/>
          <p:cNvSpPr/>
          <p:nvPr/>
        </p:nvSpPr>
        <p:spPr>
          <a:xfrm>
            <a:off x="6418440" y="2290680"/>
            <a:ext cx="784080" cy="1257480"/>
          </a:xfrm>
          <a:prstGeom prst="line">
            <a:avLst/>
          </a:prstGeom>
          <a:ln w="4428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7202520" y="3672000"/>
            <a:ext cx="17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-87480" y="353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A Common Core Coding/Numbering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09400" y="1643040"/>
            <a:ext cx="8267400" cy="46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Increase depth of knowledge with metacognition development throughout all grade levels bands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Metacognitive development through skill acquisition: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memo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Meta-comprehens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elf-regul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01200" indent="-240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Spiral of learning that revisits metacognitive development (learning strategies).</a:t>
            </a:r>
            <a:endParaRPr b="0" lang="en-US" sz="26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56320" indent="-23976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546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Overall Chan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8680" y="304920"/>
            <a:ext cx="7277040" cy="1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” tool; DOK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Rectangle 3"/>
          <p:cNvSpPr/>
          <p:nvPr/>
        </p:nvSpPr>
        <p:spPr>
          <a:xfrm rot="19200">
            <a:off x="1483920" y="4535280"/>
            <a:ext cx="64292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1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28680" y="1698480"/>
            <a:ext cx="815328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A tool and scale of cognitive demand levels (thinking)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to align standards with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Based on the research of </a:t>
            </a:r>
            <a:r>
              <a:rPr b="0" lang="en-US" sz="2000" spc="-1" strike="noStrike">
                <a:solidFill>
                  <a:srgbClr val="297fd5"/>
                </a:solidFill>
                <a:latin typeface="Palatino Linotype"/>
                <a:ea typeface="ＭＳ Ｐゴシック"/>
              </a:rPr>
              <a:t>Norman Webb, 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University of Wisconsin Center for Education Research and the National Institute for Science Educa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fines the 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ceiling</a:t>
            </a:r>
            <a:r>
              <a:rPr b="0" lang="ja-JP" sz="20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 or highest DOK level for each Core Content standard for the state assess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888840" indent="-571320">
              <a:spcBef>
                <a:spcPts val="499"/>
              </a:spcBef>
              <a:buClr>
                <a:srgbClr val="ffffff"/>
              </a:buClr>
              <a:buSzPct val="11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Arial"/>
              </a:rPr>
              <a:t>Guides item development for state assessment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1" name="Picture 6" descr="MCj01875870000[1]"/>
          <p:cNvPicPr/>
          <p:nvPr/>
        </p:nvPicPr>
        <p:blipFill>
          <a:blip r:embed="rId1"/>
          <a:stretch/>
        </p:blipFill>
        <p:spPr>
          <a:xfrm>
            <a:off x="7702560" y="426960"/>
            <a:ext cx="1069920" cy="1258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2762280" y="8571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tle 1"/>
          <p:cNvSpPr/>
          <p:nvPr/>
        </p:nvSpPr>
        <p:spPr>
          <a:xfrm>
            <a:off x="457200" y="3254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Arial"/>
              </a:rPr>
              <a:t>Depth of Knowledge Levels (DOK)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328680" y="1044720"/>
          <a:ext cx="8358120" cy="5584680"/>
        </p:xfrm>
        <a:graphic>
          <a:graphicData uri="http://schemas.openxmlformats.org/drawingml/2006/table">
            <a:tbl>
              <a:tblPr/>
              <a:tblGrid>
                <a:gridCol w="1679400"/>
                <a:gridCol w="6678720"/>
              </a:tblGrid>
              <a:tr h="411840">
                <a:tc gridSpan="2">
                  <a:txBody>
                    <a:bodyPr lIns="34560" rIns="345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DEFINI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call &amp; Re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recalls facts, information, procedures, or definition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kills &amp; 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information, conceptual knowledge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procedur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3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tegic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uses reasoning and develops a plan or sequence of steps; process has some complexity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lIns="34560" rIns="34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vel 4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ded Thin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4560" rIns="3456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ent conducts an investigation, needs time to think and process multiple conditions of problem or task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ctr" marL="34560" marR="34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E65C7-1C8A-4EE8-B303-D2491D52CB2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150660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te led - coordinated by NGA (National Governor’s Association) Center and CCSSO (Council of Chief State School Officer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igorous content and application of knowledge through high-order skill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 upon strengths and lessons of current state standard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nationally benchmarked so that all students are prepared to succeed in our global economy and societ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1572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What are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Palatino Linotype"/>
              </a:rPr>
              <a:t>Common Core State Standards/CCSS 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457200" y="598320"/>
            <a:ext cx="8229600" cy="13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Depth of Knowledg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969840" y="1905120"/>
            <a:ext cx="7848720" cy="32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Depth of Knowledge is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  <a:ea typeface="ＭＳ Ｐゴシック"/>
              </a:rPr>
              <a:t>NOT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ermined by the verb, but th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 in which the verb is us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the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thinking requir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279360" y="703440"/>
            <a:ext cx="81788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Exploring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Cognitive Rigor Matrix” 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(K. Hes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69" name="TextBox 3" descr=""/>
          <p:cNvPicPr/>
          <p:nvPr/>
        </p:nvPicPr>
        <p:blipFill>
          <a:blip r:embed="rId1"/>
          <a:stretch/>
        </p:blipFill>
        <p:spPr>
          <a:xfrm>
            <a:off x="738360" y="3067200"/>
            <a:ext cx="783252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Equalizer DI PlnngTool copy.pdf"/>
          <p:cNvPicPr/>
          <p:nvPr/>
        </p:nvPicPr>
        <p:blipFill>
          <a:blip r:embed="rId1"/>
          <a:stretch/>
        </p:blipFill>
        <p:spPr>
          <a:xfrm>
            <a:off x="1981080" y="914400"/>
            <a:ext cx="5220000" cy="557532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0" y="88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5640" rIns="3564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ecognizing Rigor; Equalizer Planning Tool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330120" y="1957320"/>
            <a:ext cx="8433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sider appropriateness in task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The zone of proximal development has been defined as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the distance between the actual developmenta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level as determined by independent problem solving </a:t>
            </a:r>
            <a:r>
              <a:rPr b="1" i="1" lang="en-US" sz="2400" spc="-1" strike="noStrike">
                <a:solidFill>
                  <a:srgbClr val="ffffff"/>
                </a:solidFill>
                <a:latin typeface="Palatino Linotype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he level of potential development as determined through problem solving under adult guidance, or in collaboration with more capable peer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” </a:t>
            </a:r>
            <a:r>
              <a:rPr b="0" i="1" lang="en-US" sz="24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(Vygotsky, 1978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In other words, it is the range of abilities that a person has to perform tasks with assistance, but cannot yet perform independently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0" y="639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Rigor and ZPD -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The Zone of Proximal Development (ZPD) 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30720" y="158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tle 1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Producing Cognitive Sweat!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276" name="Picture 2" descr="http://www.scientificamerican.com/media/inline/does-brain-size-matter_1.jpg"/>
          <p:cNvPicPr/>
          <p:nvPr/>
        </p:nvPicPr>
        <p:blipFill>
          <a:blip r:embed="rId1"/>
          <a:stretch/>
        </p:blipFill>
        <p:spPr>
          <a:xfrm>
            <a:off x="1387440" y="1122480"/>
            <a:ext cx="5438880" cy="3473280"/>
          </a:xfrm>
          <a:prstGeom prst="rect">
            <a:avLst/>
          </a:prstGeom>
          <a:ln w="0">
            <a:noFill/>
          </a:ln>
        </p:spPr>
      </p:pic>
      <p:sp>
        <p:nvSpPr>
          <p:cNvPr id="277" name="Teardrop 3"/>
          <p:cNvSpPr/>
          <p:nvPr/>
        </p:nvSpPr>
        <p:spPr>
          <a:xfrm rot="4632000">
            <a:off x="2346480" y="2268000"/>
            <a:ext cx="457200" cy="457200"/>
          </a:xfrm>
          <a:prstGeom prst="pie">
            <a:avLst/>
          </a:prstGeom>
          <a:solidFill>
            <a:srgbClr val="0070c0">
              <a:alpha val="61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8" name="Teardrop 4"/>
          <p:cNvSpPr/>
          <p:nvPr/>
        </p:nvSpPr>
        <p:spPr>
          <a:xfrm rot="5400000">
            <a:off x="2301840" y="1515960"/>
            <a:ext cx="457200" cy="457200"/>
          </a:xfrm>
          <a:prstGeom prst="pie">
            <a:avLst/>
          </a:prstGeom>
          <a:solidFill>
            <a:srgbClr val="0070c0">
              <a:alpha val="8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Teardrop 5"/>
          <p:cNvSpPr/>
          <p:nvPr/>
        </p:nvSpPr>
        <p:spPr>
          <a:xfrm rot="10390200">
            <a:off x="6292440" y="1960560"/>
            <a:ext cx="457200" cy="457200"/>
          </a:xfrm>
          <a:prstGeom prst="pie">
            <a:avLst/>
          </a:prstGeom>
          <a:solidFill>
            <a:srgbClr val="0070c0">
              <a:alpha val="53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0" name="Teardrop 6"/>
          <p:cNvSpPr/>
          <p:nvPr/>
        </p:nvSpPr>
        <p:spPr>
          <a:xfrm rot="10315800">
            <a:off x="6141960" y="1287360"/>
            <a:ext cx="457200" cy="457200"/>
          </a:xfrm>
          <a:prstGeom prst="pie">
            <a:avLst/>
          </a:prstGeom>
          <a:solidFill>
            <a:srgbClr val="0070c0">
              <a:alpha val="74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Teardrop 7"/>
          <p:cNvSpPr/>
          <p:nvPr/>
        </p:nvSpPr>
        <p:spPr>
          <a:xfrm rot="11651400">
            <a:off x="6875640" y="2160360"/>
            <a:ext cx="457200" cy="457200"/>
          </a:xfrm>
          <a:prstGeom prst="pie">
            <a:avLst/>
          </a:prstGeom>
          <a:solidFill>
            <a:srgbClr val="0070c0">
              <a:alpha val="56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Teardrop 8"/>
          <p:cNvSpPr/>
          <p:nvPr/>
        </p:nvSpPr>
        <p:spPr>
          <a:xfrm rot="19416600">
            <a:off x="3836520" y="367200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3" name="Teardrop 9"/>
          <p:cNvSpPr/>
          <p:nvPr/>
        </p:nvSpPr>
        <p:spPr>
          <a:xfrm rot="3359400">
            <a:off x="1720440" y="2312640"/>
            <a:ext cx="457200" cy="457200"/>
          </a:xfrm>
          <a:prstGeom prst="pie">
            <a:avLst/>
          </a:prstGeom>
          <a:solidFill>
            <a:srgbClr val="0070c0">
              <a:alpha val="70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4" name="Teardrop 10"/>
          <p:cNvSpPr/>
          <p:nvPr/>
        </p:nvSpPr>
        <p:spPr>
          <a:xfrm rot="18984000">
            <a:off x="5073120" y="2831760"/>
            <a:ext cx="457200" cy="457200"/>
          </a:xfrm>
          <a:prstGeom prst="pie">
            <a:avLst/>
          </a:prstGeom>
          <a:solidFill>
            <a:srgbClr val="0070c0">
              <a:alpha val="85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5" name="Teardrop 11"/>
          <p:cNvSpPr/>
          <p:nvPr/>
        </p:nvSpPr>
        <p:spPr>
          <a:xfrm rot="19065000">
            <a:off x="6362280" y="4603680"/>
            <a:ext cx="457200" cy="457200"/>
          </a:xfrm>
          <a:prstGeom prst="pie">
            <a:avLst/>
          </a:prstGeom>
          <a:solidFill>
            <a:srgbClr val="0070c0">
              <a:alpha val="72000"/>
            </a:srgbClr>
          </a:solidFill>
          <a:ln w="19080">
            <a:solidFill>
              <a:srgbClr val="467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1387440" y="4554360"/>
            <a:ext cx="567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Meeting the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ＭＳ Ｐゴシック"/>
              </a:rPr>
              <a:t>Rigor of the Common Core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252360" y="1155240"/>
            <a:ext cx="8748720" cy="538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Continuation of NCLB encouraged by refined educational ideology and direction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tent: raise educational rigor and achieve state/national standard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48 States adopted Common Core or version thereof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PA has altered Common Core to a minimal extent to  meet existing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a) assessment tools expectation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(b) common language use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Transition timeline: 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phase in beginning in 2012 – 2013; guided by AIU Consultant &amp;                     FCASD Think Tank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expectation for integration of practices in the 2013 – 2014 school year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3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4503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Leading to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Literacy Standards in the Content Area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223560" y="1498680"/>
            <a:ext cx="87678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Based on a range of national and internationally benchmarked assessments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1. Intensity of Rigor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roficiency in most state level standardized assessments fall below the proficiency on the NAEP  (nation’s  report card)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performance declines in upper grades -  students lose momentum in high school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971640" indent="-5144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tudent readiness for college/work at an all time low.   Inadequat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Verbal reasoning ability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Understanding of words us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Background knowledge about domains represented in tex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4288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Lucida Grande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Familiarity with semantic and syntactic structures that assist with the understanding between relationships and IDEA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243000" y="1733400"/>
            <a:ext cx="872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Communications on a national level: 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discrepancy in proficiency measures across states – uneven student expectations - lack of focused guideposts for parents, educators, student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457200" indent="-457200">
              <a:buClr>
                <a:srgbClr val="ffffff"/>
              </a:buClr>
              <a:buFont typeface="Palatino Linotype"/>
              <a:buAutoNum type="arabicPeriod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</a:rPr>
              <a:t>International measures &amp; comparisons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: country falling behind; U.S. curriculum tends to be wide as  opposed to deep - compared with other successful countries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Driving Forc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Profile of a Common Core Graduat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8080" y="1003320"/>
            <a:ext cx="8458200" cy="570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Responsive to varying audience, points of view, tasks, purpose, disciplines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Independent learner and thinker --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ocus on metacognition: self assessment, goal setting/plan-making….)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; able to comprehend and critique works of quality and substance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Values evidence and supports related to argument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Development of skills and attributes in the areas of: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mmunic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ollaboration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eativity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Palatino Linotype"/>
                <a:ea typeface="ヒラギノ角ゴ Pro W3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ritical thinking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chnology and digital media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Understanding of other Perspectives/Cultur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 high degree of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rigor, metacognition, 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and student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collabora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Emphasis on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non-fiction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occurs throughout the grades as well as </a:t>
            </a: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increasing the amount of student reading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</a:rPr>
              <a:t>Technology</a:t>
            </a: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 embedded  throughout learning experiences and emphasis on the use of digital resources.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5378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CC Overarching Themes -- Continued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4920" y="1228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Common Core Standards support and encourage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Speaking and Listening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standards are much more specific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on a daily basis for a variety of purposes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cademic writing 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– argument/explanation/research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Relevant levels of Text complexity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- prominent addition (with exemplars)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pecificity 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and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scaffolding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 of standards provides vertical articulation to support </a:t>
            </a:r>
            <a:r>
              <a:rPr b="1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text complexity</a:t>
            </a:r>
            <a:r>
              <a:rPr b="0" lang="en-US" sz="1600" spc="-1" strike="noStrike">
                <a:solidFill>
                  <a:srgbClr val="ffffff"/>
                </a:solidFill>
                <a:latin typeface="Palatino Linotype"/>
                <a:ea typeface="ヒラギノ角ゴ Pro W3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Palatino Linotype"/>
              </a:rPr>
              <a:t>Text connections</a:t>
            </a: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  throughout the grade levels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648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8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26560" y="2179440"/>
            <a:ext cx="831708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Read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 Linotype"/>
              </a:rPr>
              <a:t>Foundational skill acquired K-5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  <a:p>
            <a:pPr lvl="1" marL="569160" indent="-227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Writ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Speaking &amp; Listening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Language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ontent-area subjects incorporation and cross-curricular implementation of reading &amp; writing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 marL="242640" indent="-227160"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Palatino Linotype"/>
              </a:rPr>
              <a:t>ELA/Literacy Common Core Focus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5T23:49:02Z</dcterms:created>
  <dc:creator>Teacher FCASD</dc:creator>
  <dc:description/>
  <dc:language>en-US</dc:language>
  <cp:lastModifiedBy>Teacher FCASD</cp:lastModifiedBy>
  <cp:lastPrinted>2012-06-04T17:59:55Z</cp:lastPrinted>
  <dcterms:modified xsi:type="dcterms:W3CDTF">2012-06-07T02:38:47Z</dcterms:modified>
  <cp:revision>92</cp:revision>
  <dc:subject/>
  <dc:title>PA Common Core Standards</dc:title>
</cp:coreProperties>
</file>